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3DD-D0B3-457D-A59E-1A36DDA9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EB62-98D4-4F12-AF92-D6AB41F2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CE8-C480-4B3A-BAE2-A9ED5C9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254-0C73-403D-BD1A-58E2C04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013-4331-4C85-9F9A-EDB5CB9A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398-6B21-470B-B2C5-91CC4B7C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084-193C-4460-B7EA-55925D0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A4D-724A-40FD-B902-F165B6C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8FE-E813-4E4E-AEE6-9FB27A78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D2B-4894-4D0B-84A1-B26364B2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54E-F760-4018-A48B-33C67C7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2E5-1A9A-4023-B04E-151935E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5EB-769B-4A4B-9D34-4BB8A5C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408-3870-484F-8F5C-0D84C8A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9BE-137E-490E-93A3-EAEBF489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7242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973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Usted de donde mi escuel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recordar 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3Z</dcterms:modified>
  <cp:revision>106</cp:revision>
  <dc:subject/>
  <dc:title>Profile</dc:title>
</cp:coreProperties>
</file>